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7E91-4F22-4847-B4C9-08DFAAE6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D885-42A5-4470-9804-6C383593D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4D7-863F-4B85-9514-029D941DA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21C4-4E36-488B-852A-7B3AD9D9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72AE-087B-4FC1-A75F-828B09CB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6D9C-BED3-455A-BF8F-EA376B66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316-8917-49F8-99C1-94968131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2FF-0D5A-4ACF-A32F-EABEAC9C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5497-DC6A-4447-9D90-8F34EEB58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170-C3A7-4C27-9BFD-9D94A310F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57C6-B073-4621-83B2-1CD771709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B1A6-9219-4104-854A-D32913FB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6D37-C259-45CF-A954-CDB94D345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3A42-69E9-4A45-B0D6-D6D9D629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6DDB-1623-4F34-B329-B59DDA0A8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D7FA-69AE-48C8-8B0D-BA5A8074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1D74-4456-400E-B1A6-4199EB8F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0601-C4FD-4093-ABAC-A5AE19EA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2A9E-16A3-4960-ADDF-7CA4BD788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18A4-7D9D-40BA-B071-18CF0750D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89A5-D4D7-4404-9AC2-6FFF78F4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A7CD-783A-4572-AE60-FF880450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77E5-A369-4BBD-B574-4E620142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BB36-8A2D-4FE9-BC44-6C0B8FC9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F6ED-6C5D-408E-A03A-C9E171C3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4ED8-A626-4815-94E6-E8413CF10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726D-A470-486C-B3A4-EB2B0B48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71A9-5C55-4D9E-A89E-0103629A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06FD-01CD-41A0-BF53-9B0C0CB0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D8A-8CB0-49BB-BF0E-381B820A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7ECB-7096-4268-AB01-E4CCFB209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B2A4-021B-4CC4-BC95-4BE29B14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7E05-42DA-4EE6-A26A-035C7B72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C49D-98B0-4EEE-8F89-C835C8C0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40C1-CD2C-4836-8F6E-F66EE614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AA3-94FB-4A6D-910E-A98ED649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6FA-9F40-435C-95EF-E3ADC7D3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6F7-CDD3-4E5D-B1ED-B45DE41A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9FE-43CA-4A6B-A88B-1F901D7A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FB5-89FB-4C86-AABA-E0A9B061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A2B-B0E7-47A5-A972-CFF51A02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084-F0B5-4F85-9907-66E2492A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279-1DB1-4018-ADAC-4284E921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CB2-5926-4018-A321-F459866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E45-3B5A-45E3-9909-06243E34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3CE-C033-4424-832E-C0B948A8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53A-3E17-4F8F-85EF-FCBDA477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FC9C-7367-401B-B3EA-3B743641F93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F9CE-B1B2-4B06-A5A7-728F328B33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6245280"/>
            <a:ext cx="837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C327-3DBD-4F77-B65F-5E16E87136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1713-7941-4B4D-B4E3-D6FAE452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B01E-E862-4644-968C-3CF45A9F5A7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6DD-9037-4FB4-B010-9B862C22B1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Žan Eskirol (1772-1840) zalaže se za Zakon o zaštiti duševnih bolesnika i izgradnju prikladnih psihijatrijskih ustanova. Eskirol je bio i prvi predavač psihijatrije, on usavršava Pinelovu klasifikaciju i organizuje terapiju mentalnih poremećaja. Ovo je period kada po pitanju etiologije dominira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eklekticizam.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avode se traume glave, intoksikacije, venerična oboljenja, snažne emocije kao mogući uzroci psihijatrijskih oboljenj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9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1459-778B-4D55-9385-97A58BA6331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02A3-E9B7-4250-B51E-870D35188B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ilhelm Grizinger (1817-1868) smatra da svaki psihijatrijski bolesnik mora biti eksplorisan i neurološki. Njegovo shvatanje o tzv. jedinstvenoj psihozi (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Einheipsychose)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predstavlja temelj buduće naučne psihijatrije. Prema Grizingeru razni uzroci mogu biti razlog za jedinstvenu psihozu a oblici psihotičnog ispoljavanja predstavljaju  samo stanje u toku jednog jedinstvenog morbogenog proce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8ED8-1E68-4A8A-801A-297DA7CB0B0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EA96-3480-4806-8D54-619221B460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orel (1809-1873) je tvorac teorije o degeneraciji u psihijatrij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On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tvara učenje zasnovano na genetičkim premisama da, usled delovanja različitih morbogenih faktora, nastaje progresivna psihička degeneracija, koja iz generacije u generaciju sve više osiromašuje porodice po pitanju sve izraženije ekspresije niza mentalnih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CEC2-E929-408F-9567-F6F562F4F3A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C7DF-FF0B-44BC-BB8B-25303AA91A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il Krepelin (1855-1926)  smatra da je psihijatrijska bolest skup simptoma-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indro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. On je rodonačelnik tzv. psihijatrije toka (posebno analize toka shizofrenije), kao i pojma funkcionalne psihoze koja podrazumeva nemogućnost anatomskog definisanja nekog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2BE5-DF96-48C9-BDD3-0BEDF503388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C90D-A496-42BB-A3F3-FA3326A1CE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vorac psihoanalize Sigmund Frojd (1856-1939) stvara originalni psihoanalitički metod i svoju topografsko-strukturalnu teoriju sa instancama ega, ida i superega. On revolucionarno menja klasičnu krepelinovsku psihijatriju unoseći novi duh i nove teorijske ali terapijske modalite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EF18-1CBF-4FE0-A03E-ED3E49D6716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63B3-C237-41ED-B65A-77D3856C50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ugen Blojler (1857-1939) 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alaga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za Frojdovu teoriju kao i psihoterapiju, posebno u tretmanu teških psihijatrijskih poremećaja poput shizofrenije. On je dotadašnji naziv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Demencija prekok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zamenio nazivom shizofrenija, koji znači rascep duševnog života.Time je ozvaničio činjenicu da demencija prekoks nema unapred negativan tok već da je moguć benigan tok i izlečen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9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838B-51DF-4966-B4ED-970B300258D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0802-EB29-4717-960F-54F8FE28E4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četkom XX veka, razmatraju se neke fundamentalne dileme u okviru psihijatrijske teorije i prakse kao što su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ganicizam ili psihoanaliz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nutrašnji (endogeni) ili spoljašnji (egzogeni) faktori u etiopatogenezi mentalnih obolj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azvijaju se refleksologija i fenomenolo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465-CE32-47DE-8086-6F993C4EB2F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480A-0555-4BC7-B675-6EC7CFD47B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kon završetka II svetskog rata Svetska zdravstvena organizacija unosi niz modifikacija, između ostalog i u organizaciju rada psihijatrijske službe. Duševno zdravlje postaje briga celokupnog društva, svake društvene zajednice. Metodama lečenja sasvim ravnopravno priključuje se i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ocioterapij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u skladu sa dimenzimaja i sadržinom rada tzv.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ocijalne psihijatr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7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09B8-9E4D-429C-A21B-E68FBC1E9A1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C07E-5C36-4948-B13A-C836F055D1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vešćemo neka od najznačajnijih naučnih dostignuća koja su unapredila, humanizovala i modifikovala savremenu psihijatrijsku nauk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7"/>
          <p:cNvGraphicFramePr/>
          <p:nvPr/>
        </p:nvGraphicFramePr>
        <p:xfrm>
          <a:off x="0" y="4221000"/>
          <a:ext cx="914400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21000"/>
                    <a:ext cx="914400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B40E-C1A7-4B36-8426-9B346A7D6B5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F797-6A7D-4504-AA27-8AB8B214D6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52. Žan Dele i Pjer Deniker izveštavaju o efektima hlorpromazina, prvog neurolep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0. Kac Bernard dobija Nobelovu nagradu za otkriće neurotransmitera u nervnom siste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7. godine dobijaju Nobelovu nagradu Rođer Guljemin i  Viktor Šali za otkriće neuropetida u moždanom tkiv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9. godine Kormak Mekload i Godfri Njubold dobijaju Nobelovu nagradu za otkriće kompjuter-asistirane tomograf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9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Arial"/>
              </a:rPr>
              <a:t>Istorijski razvoj psihijatr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Prof dr Minja Jovan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Fakultet medicinskih na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858B-02EE-43C9-B5DF-C1FF662F6C3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9093-5152-4A3A-90C2-DE791394B3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981. Volkot Speri otkriva neuropsihološke specifičnosti funkcije leve i desne hemisf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2000. godine Arvid Karlson sa Grinardom i Kendelom dobija Nobelovu nagradu za  pionirski rad koji se tiče izučuvanja dopaminskog sistema i sprovođenja signala u CNS-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2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4BE0-8BFA-4730-BA24-9EB0D85E68B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6776-4EE8-4527-819E-9C27B819C1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vesno je da na osnovu razvoja psihijatrijske misli i nauke ne možemo postaviti jedinstvenu etiopatogenetsku koncepciju mentalnih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D3A1-04D0-48B4-9427-CEE1809A47B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1D3-3B89-4C18-9AC8-27B4F05634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pravo raznovrsnost teorijskih ali i egzaktno naučnih dostignuća govore u prilog tome da u tumačenju psihičkih poremećaja moramo primeniti multifaktorijalne teorije koje su sinteza bio-psiho-socijalnih faktora, što ujedno i predstavlja integrativni trend ne samo u savremenoj psihijatriji već i u medicini uopš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SIHIJATRIJA, PSIHOPATOLOGIJA, PSIHOLOG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PSIHIJATRIJA se bavi nastankom, razvitkom, kliničkom slikom i lečenjem psihičkih poremećaja i bole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86920" y="4508640"/>
            <a:ext cx="668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SIHIJA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GRANE PSIHIJATRIJ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čja i adolescent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Geronto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iol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ocij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mun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t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udsk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ranskultur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xtztx"/>
          <p:cNvPicPr/>
          <p:nvPr/>
        </p:nvPicPr>
        <p:blipFill>
          <a:blip r:embed="rId1"/>
          <a:stretch/>
        </p:blipFill>
        <p:spPr>
          <a:xfrm>
            <a:off x="6659640" y="3068640"/>
            <a:ext cx="2052720" cy="2664000"/>
          </a:xfrm>
          <a:prstGeom prst="rect">
            <a:avLst/>
          </a:prstGeom>
          <a:ln w="0">
            <a:noFill/>
          </a:ln>
        </p:spPr>
      </p:pic>
    </p:spTree>
  </p:cSld>
  <p:transition advTm="19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PRISTUPI U SUVREMENOJ PSIHIJATRIJ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Biološk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sihološk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Socijal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OSNOVNA TERMINOLOG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698480"/>
            <a:ext cx="8497800" cy="47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tom -  subjektivni znak bole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ak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bjektivna promena u ponašanju pojedin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rom - skup simptoma koji se javlja u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utno - bolest ili stanje koja se pojavljuje naglo i kratko tr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onično - perzistentna bolest ili sta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ni uzrok - za koga se pretpostavlja da je izazvao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sponirajući faktori - organizam 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spozicije za razvoj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pitirajući faktori - trig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aktor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idač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ržavajući faktori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ji održavaju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orbiditet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tovremeno pojavljivanje dve ili više bole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5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OLOŠKI (MEDICINSKI)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s simp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vlj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jagnoze (prema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ifikacija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matranje etiologije (mogućeg uzroka boles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isiv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ap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viđ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nticipir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470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DIJAGNOZA U PSIHIJATRIJI I SOMATSKOJ MEDICI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pisna (opisuje kliničku sliku): BAP (bipolarni afektivni poremećaj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ategorijalna: shizofren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tiološka (objašnjava uzrok): krvarenje, up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-itis), prel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6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5862-AC9E-489C-A37D-50745E924CF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5A02-79E7-4F26-98B8-ADF0B99D2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sihijatrija je grana medicine koja po svojoj istorijskoj „definiciji“ pre svega podrazumeva veštinu lečenja. Savremena psihijatrija je opšte prihvaćena stručno-naučna disciplina, koja u okviru patologije savremenog čovečanstva dobija sve značajnije mesto, a u okviru drugih medicinskih disciplina značajan interdisciplinarni položa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SIHIJATRIJSKI I TELESNI SIMPT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78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sihosomatika (ulkusna i ulcerozna bolest, arterijska hipertenzija, šećerna bolest, psorijaza, srčane bolesti, astma …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matopsihika (reakcija na ozbiljnu telesnu bol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elesne bolesti koje imitiraju sliku psihičkog poremeć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8040" y="3139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BOLEST - ZDRAVL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sihičko zdravlje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dsustvo bolesti, odnosno simp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sihička bol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ovek je bolestan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a simptome psihičke bolesti koji zadovoljavaju određene kriterijume (klasifikacijs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713560" y="1622520"/>
            <a:ext cx="1753920" cy="2028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7810560" y="2203560"/>
          <a:ext cx="307800" cy="30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0560" y="2203560"/>
                    <a:ext cx="3078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7" descr=""/>
          <p:cNvPicPr/>
          <p:nvPr/>
        </p:nvPicPr>
        <p:blipFill>
          <a:blip r:embed="rId4"/>
          <a:stretch/>
        </p:blipFill>
        <p:spPr>
          <a:xfrm>
            <a:off x="5707080" y="4016520"/>
            <a:ext cx="1766880" cy="2044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885080" y="4508640"/>
          <a:ext cx="3049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85080" y="4508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Arial"/>
              </a:rPr>
              <a:t>LJUDI MOGU PATITI OD ISTIH SMETNJI I DOBITI RAZLIČITU DIJAGNOZU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1103400" y="1841400"/>
          <a:ext cx="666108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841400"/>
                    <a:ext cx="666108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Oval 4"/>
          <p:cNvSpPr/>
          <p:nvPr/>
        </p:nvSpPr>
        <p:spPr>
          <a:xfrm>
            <a:off x="2268360" y="5877000"/>
            <a:ext cx="50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916360" y="5950080"/>
            <a:ext cx="4032000" cy="581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presivni simp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2843280" y="623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0" y="2924280"/>
            <a:ext cx="1979640" cy="1366560"/>
          </a:xfrm>
          <a:prstGeom prst="cloudCallout">
            <a:avLst>
              <a:gd name="adj1" fmla="val 77986"/>
              <a:gd name="adj2" fmla="val -9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348000" y="4797360"/>
            <a:ext cx="1943280" cy="1297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708360" y="5229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kohol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227640" y="4653000"/>
            <a:ext cx="1368720" cy="1440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51672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50920" y="3141720"/>
            <a:ext cx="136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Nesr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ć</a:t>
            </a: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no zaljubljena plavuš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RAZLIČITE KLINIČKE SLIKE KOJE MOGU DOBITI ISTU DIJAGNOZ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835280" y="1844640"/>
          <a:ext cx="647856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47856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Line 4"/>
          <p:cNvSpPr/>
          <p:nvPr/>
        </p:nvSpPr>
        <p:spPr>
          <a:xfrm>
            <a:off x="3132000" y="486900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908000" y="5734080"/>
            <a:ext cx="2519640" cy="1068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gativna 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7380360" y="4581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948360" y="566100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651640" y="5734080"/>
            <a:ext cx="26654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zitivna 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 PAŽNJ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CF8C-6BE4-46C3-8791-81CCBE77A03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0C73-6B8E-4FC3-B423-03D62DE78A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vi sistematični pomak u uslovno rečeno psihijatriji kao nauci čini Hipokrat (460-377 pne) koji je smatrao da su duševni poremećaji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poremećaji mozg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a u skladu sa ovim shvatanjem predlaže i čitav niz terapijskih procedura (primena purgativa, obloga, kupke u sumpornoj vodi, kao i puštanje krv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C25-D748-4F2B-ABC6-083CBB150D7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D415-3F0B-4402-B785-3490EFC688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laton je nasuprot Aristotelu, smatrao da je sedište duše mozak a ne srce. Aristotel je u svom delu „O duši“ govorio o značaju emocija i opažanja odnosno o asocijaciji ideja, kao što je i ukazao na značaj tzv -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katarz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li fenomena „psihičkog pražnjenja“ koji je kasnije našao i svoje mesto u teorijama Sigmunda Froj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A003-71D8-4ABB-AFE7-E546C5F8CFF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A486-6833-463D-8EAD-9D55366A44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 Srednjem veku posebno se ističe misao Tome Akvinskog koji govori o tri sloja psihičkog: vegetativnom (anima vegetativa) što bi približno odgovaralo autonomnom nervnom sistemu, senzitivnom (anima sensitiva) koja obuhvata opažanje, pamćenje, maštu, i intelektualnom (anima intellectiva) koja omogućava rešavanje problema i učenje iz iskustv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1868-330A-4F3F-9DAF-3676D581D95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92EE-0B65-4E47-BF21-234DACB68E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nesansa je iznedrila Paracelzijusa (1493-1541) koji je smatrao da su duševne bolesti posledica raznih  poremećenih hemijskih procesa. Ova prenaučna epoha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vršava se sa 17 vekom kada se psihijatrija  nazivala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demonologij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7374-4139-4297-8C91-CDF1748C0F9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9BD4-E861-442C-AC05-061AC3514E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učnu epohu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počinj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ilip Pinel (1745-1826) koji se smatra reformatorom i čovekom koji je humanizovao odnos prema pacijentima u psihijatrijskim ustanovama. Ovo je doba Francuske revolucije koja ujedno označava i rađanje naučne psihijatri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1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3950-FF6E-40D9-8083-100CB210647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5F5-6818-446B-A1B5-B751D5DB99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lijem Kulen (1710-1790) daje sintezu dotadašnjih psihijatrijskih saznanja i objavljuje 1785 godine svoju medicinsku nozologiju (klasifikaciju mentalnih oboljenja). Kulen prvi upotrebljava termin neuroza i pridev neurotič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7:24:00Z</dcterms:created>
  <dc:creator>PROXIMA-1</dc:creator>
  <dc:description/>
  <dc:language>en-US</dc:language>
  <cp:lastModifiedBy>nmuric91@gmail.com</cp:lastModifiedBy>
  <dcterms:modified xsi:type="dcterms:W3CDTF">2020-10-01T10:59:23Z</dcterms:modified>
  <cp:revision>31</cp:revision>
  <dc:subject/>
  <dc:title>UVOD U PSIHIJATRIJU</dc:title>
</cp:coreProperties>
</file>